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move the slid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4330-4F29-448A-9C7C-F2925D021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C2FC-5A59-4418-9219-809415F758E1}" type="slidenum">
              <a:rPr b="0" lang="en-US" sz="1200" spc="-1" strike="noStrike">
                <a:solidFill>
                  <a:srgbClr val="1a1a1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09368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898200" y="4375080"/>
            <a:ext cx="5016600" cy="40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8398-AEEC-466C-8BDA-575ECC45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FB63-19DA-4A64-A5D4-47E74144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6114D-9168-44BD-AC9D-8EE8E313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9B572-D0C8-477A-B6B6-3714B78E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4DCFA-74ED-4EE0-A434-9F0F837B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A73E8-3642-4166-A4FE-A5584687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2A6D2-13D3-4FF2-A124-CA1F6228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EE2C4-6262-4DBD-BFB5-DF525184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109A5-BA9C-4ABD-8D8D-3B37F9B5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C078C-622D-41AA-B6FF-1A5E1619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5BFB0-3117-45C5-930A-9C78721C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A23CC-4599-48D6-A9F9-A801DFD1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BAFE-1C50-4B15-BCFE-764BB72D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3B508-83C4-41CA-B19B-2135FCE2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10CB4-3DF4-4FF4-BAD5-D60363AA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AFBB5-C1C1-4D92-9B62-0F236781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732C1-AE77-49AE-8874-36AAD296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349B0-685E-4074-B4C1-4BB3A5CF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E6A88-ECC7-45BD-A7E0-D94AF1DD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D0980-A7C3-460A-AFAA-97675214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76A56-4718-40FA-9822-35F5BE5D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02098-6462-49ED-BB04-611CBC89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428BE-F9C2-41AC-A128-F05EDF96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43E-A061-46DB-A140-927FDB92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DA45B-83D7-4DD6-B9F4-B57A84B0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21ADA-135E-4C7C-A291-428DB51E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8BA5F-70EF-49CD-9573-230A4BA2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C51F4-3487-4504-B756-F84E558C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4884E-0489-46D7-B686-15435F42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CCD22-01B4-4F34-A21F-3A68FAF7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D1E0E-9505-42C0-A5BD-E944EF65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34572-EAE0-4416-BD23-3C67A9BE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4CB4A-B4A3-46AF-A29C-122740B3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F1812-8ACA-489D-9DED-BCCAB5C3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6251C-0CF5-4AA4-BA99-D7349FF3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C969B-F648-4F7B-9A06-5CD6FD11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BA0C6-B0D7-4B72-A4D9-764A6E63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5876F-7A10-48FE-B8E6-272BCA8A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586F2-BF8D-4D86-BF8E-359DF836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A0BBA-2006-4C79-AAC4-94656647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6A33C-85DC-4980-B53F-EEFBE00C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5BCBA-56CD-47C1-865A-2929FCAB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09E5C-FB73-40EF-9082-1BBBFF5F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D3BD6-5D7C-40E6-9B59-503B2B10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9FA2D-C4BB-44C9-B7DF-0CDA6FC4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094C4-47C4-4ED7-942E-8B5E1DCE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74BC7-CBDF-495D-8C57-C3227128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D2D7E-9764-4FC7-8EED-4D2AF70E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C8AA8-E38B-4BAB-9613-C4961998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BADE4-B531-48F7-A40F-A72F1C62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C4510-8F3B-47DF-9F38-9F7E1718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D00EB-ACE5-4C51-AFA6-C8F63A91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A246F-DD61-4A25-B112-FDA05563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A844B-EDB3-4F04-8941-05144383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7770A-9452-4E27-8F0E-E3909774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43542-74A8-4833-ABEE-4CC281F6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1A325-725F-4903-9439-0FEB110A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3B72B-E5C7-419D-B8E6-A33265D7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6E55D-FA96-4BE1-9A8D-F4B5A91D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90F4C-BA2B-437C-B720-32D6B2D3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474DA-E4AE-4FEA-81B3-59FE3993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2DA95-8EAB-40EE-B85F-E18B0DED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3867C-3E78-42F4-A6F4-3BA9C63E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04478-1A79-415A-8EE7-F3ACF6C1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5FA83-FCF3-433F-B6F8-482750B9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4ACFD-7579-481F-847F-5E3C988F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22D5B-1FD2-486A-B3E0-BC57B5F1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CE7A8-40A2-491A-B0CE-8BB05A0D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7A8CC-EE68-4C47-AFBB-D93CD1F0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17EFE-DA48-4D8D-AB11-7CDCCC54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DCE2B-25F9-4ECF-BB71-5DA48E76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31039-A785-464B-8773-F808A059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B4E65-720E-41BC-ABAA-ABBD893D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0F8C9-B7F5-44C3-AE8D-D2582B03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2901F-3965-4624-8191-40FE8C02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382E9-6572-4CF9-9215-B60D807A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4B032-7113-497A-8CF8-6CE15E6E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988C1-E7B1-41FC-937D-30AAB1BD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024A7-7298-4046-968A-24FD6F3B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B0DF1-2414-4157-A70B-C62995AC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73426-EF8A-4B06-BADB-AF9232EA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52130-3500-4C7D-8431-2D2DAE2F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AABCC-3486-4829-9E88-DAD35D14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AC86E-60D6-41A2-A648-2C4EC917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150FD-8389-4681-81FC-6812C1EB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9A052-9738-48A7-9F1E-D41B57E9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3FA4B-FB6A-4D29-8D62-ACFC3A33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05560-0207-4111-8512-015715A9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0BC55-D95E-4922-909E-76AD8AE7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CCD50-BE60-40AA-8BF6-E5C49265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4D83B-D130-4962-9E02-C12F5F8B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16E0D3-52A8-4635-82D5-AF3CFD6B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1F5-54E3-4C26-AC81-C4326880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DAA10-6E9E-4068-ABB4-02B689E4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4B47A-7A11-4598-89BA-CC0A3F69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9DC34-692A-4D11-AB17-6CFC3295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645C9-1297-41BB-8610-980E3AEF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11F40-3337-498F-9E6A-5FC97284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49FFA6-D9A0-467E-81F1-85C78942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D5B96-6745-49F6-8542-ADC48B63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981E7-4A24-401C-9EC8-5D664C2E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D47887-8F34-4436-BDA7-8856E329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3023C9-FE1B-4CFD-A820-0FB02134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96C7A1-2072-499C-B556-B4AC5F25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2FA8E6-5ECE-4815-8EB8-12145F99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B38793-F7BF-4B3C-8A10-9BC4E146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2B369A-398C-4AC0-85E2-7550A378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177466-2CC3-42A2-8A41-D88A45DB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FD3855-B0C3-4E00-BC2C-50003190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55A3B-5C74-44BE-A7D6-97127C76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4F9D-1BDE-475C-A46E-202CF407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1B95-9893-4D59-81B7-96A49614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C992-3AB7-42B0-98ED-6BFF73E5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B4C-C4FC-4010-88E5-A81EC660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D96C-9772-4C06-BD62-B118A1AE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2AE6-9077-4874-BA35-F57C5716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260D-5FDD-411B-B190-97076669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5F24-8D22-4CE5-A019-E09DC026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1980-0BE6-4443-88D2-39EAAE8E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8490-1278-4689-BB14-EE0BA704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BCD9-1CA7-44E6-AFC4-95B41376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66A9-9C7D-4855-B427-E6397818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8C34-C743-4DBC-9CC6-FC3F7B0C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6FA9-5454-4866-B598-7A88F4AE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CAA-1385-4D46-8AE2-98A8214D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D773-9D40-427C-86F2-48E1596F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891AC-F8CA-4BD3-AB5D-8D938516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7CE3A-7B55-458C-955F-8728EC8A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D9515-C60C-41B3-B43B-4EA1AE49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1F28E-2906-4241-800E-B38AADE3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195A2-BD29-456A-92F4-3E529236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48A8C-3C21-4156-8683-53C65005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B373B-C3E3-4D31-8A0E-7939D1DD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F2DC4-3220-41C5-A095-C1189469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A0618-FA39-45BB-AD59-1839B446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EAD-31E8-4985-96E4-4D8CAE0A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E28C9-A3EF-4513-B688-D05A3759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AFA0-4793-4F25-9B3C-74C3B7A6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BEA4F-12A6-4242-8755-76A4904C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DA070-E193-43A2-A357-375C4C8B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7DD0E-12E4-465F-BD33-0E5E1C99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0FD1E-AF02-406E-BDBA-66678ADF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3C541-72B3-496B-BC17-2CF554C9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DFCF8-B97B-4E08-A2A6-674081A4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04B0E-E241-4DD3-B167-24317C62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5A6BA-6F23-4076-AF8B-B57C0F67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5DE-7D50-4EF1-B883-266692AB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9B300-CCF0-4C39-AFFA-2BD60C5C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6F176-420C-4974-AD6C-2DD60FF4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F73D2-C478-45CB-A864-775C7350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F4EC0-A3E2-4A64-8F54-40DEB1E5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4CFF4-84DB-43AB-9E35-C577598B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33E37-D610-4882-A5C4-7C5A713E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165FB-33BA-4C52-BC01-96BAC5A6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64E26-A8B9-44BD-B333-22BCD95E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00B6B-AAAA-4266-8A98-8C373D83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7E260-8D6E-4801-B868-99926BDE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DE8D-F53D-4F6F-8D80-2A3BE85B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EB6C1-E569-4D10-97CC-D61151A7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3E00A-4D72-4D96-A1A7-F2A1C0F3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41804-25BA-41C2-A416-8FA494DA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15257-D448-4726-B874-15E2425D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A2A8E-4585-4527-8416-4AAED133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2B2AD-4C48-4CEF-930A-AEE9F8F6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D64F5-90A9-4DEB-87F6-E1A59841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B6CBE-B608-4969-96EB-CBC6A655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15A44-0493-48DB-ACEB-D4BD3060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469F5-D7A4-4DE7-953B-B500780D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hyperlink" Target="http://www.international-pain-school.org/" TargetMode="External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1B5F-9F63-4FAB-A470-BD718E481D6A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ounded Rectangle 5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58DD-4423-4F1A-B393-F0613D176502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2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3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4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157C-E746-4A2D-B736-6D8F5623DD99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ounded Rectangle 2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7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6403-D60D-4755-B8B6-9967FF2EF26A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D476-D320-4279-84F9-999A9F731A3B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0BD1-EE3B-466B-BC15-369C47009C31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964C-1C8D-4F3C-B032-FA2B99B1E061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5A85-4F39-4F2A-AD48-B4E045DBDF39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ounded Rectangle 3"/>
          <p:cNvSpPr/>
          <p:nvPr/>
        </p:nvSpPr>
        <p:spPr>
          <a:xfrm rot="5400000">
            <a:off x="7739280" y="-27720"/>
            <a:ext cx="43524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2438-A3B1-434F-8CE5-8CE4565C44CC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Box 1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858585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858585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858585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5" name="Rounded Rectangle 2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6" name="TextBox 3"/>
          <p:cNvSpPr/>
          <p:nvPr/>
        </p:nvSpPr>
        <p:spPr>
          <a:xfrm>
            <a:off x="777960" y="4487760"/>
            <a:ext cx="75866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Open Sans"/>
              </a:rPr>
              <a:t>More lectures and further information can be found on our project website.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 u="sng">
                <a:solidFill>
                  <a:srgbClr val="008bcb"/>
                </a:solidFill>
                <a:uFillTx/>
                <a:latin typeface="Open Sans"/>
                <a:hlinkClick r:id="rId2"/>
              </a:rPr>
              <a:t>www.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Open Sans"/>
              </a:rPr>
              <a:t>© 2013 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1a1a1a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1a1a1a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333333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ounded Rectangle 3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A984-C051-4DE5-A25D-AA1D5D916D57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798C-453E-425C-A6BA-9FDD0A5D6A0D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496D-8675-4FFF-ADE8-4654FEC63279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7494-5E53-44B2-8A3B-D2223661D6A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BB39-9006-4C92-A790-F3A0CD1FAAD8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Integration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can be a part of symptom management from the time of diagnosi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there are no curative options, focus medications and treatments on comfort only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osing of pain medication, such as opioids, has no upper limit-especially at then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reat all aspects of the patient as their greatest suffering may not be from physical pai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Remember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only requires attention to what the patient needs, regular re-assessment, and access to medication.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igh-quality palliative care does not require any high-tech materials or equipmen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one can provide palliative care to those in need, especially at the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85800" y="45720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Open Sans Semibold"/>
              </a:rPr>
              <a:t>This talk was originally prepared by: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7" name=""/>
          <p:cNvSpPr/>
          <p:nvPr/>
        </p:nvSpPr>
        <p:spPr>
          <a:xfrm>
            <a:off x="468360" y="1676520"/>
            <a:ext cx="8424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Jamie Laubisch MD &amp; Justin Baker MD</a:t>
            </a:r>
            <a:endParaRPr b="0" lang="en-US" sz="36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Memphis, USA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9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1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84360" y="1266840"/>
          <a:ext cx="7696080" cy="4983120"/>
        </p:xfrm>
        <a:graphic>
          <a:graphicData uri="http://schemas.openxmlformats.org/drawingml/2006/table">
            <a:tbl>
              <a:tblPr/>
              <a:tblGrid>
                <a:gridCol w="4260600"/>
                <a:gridCol w="3435480"/>
              </a:tblGrid>
              <a:tr h="38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ology and pathophysiology of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ilesh Patel, PhD, Keny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of pain &amp;  taking a pain histor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Yohannes Woubished, M.D, Addis Ababa, Ethiop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pharmacology of analgesic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non-pharmacological treatment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Ramani Vijayan, M.D. Kuala Lumpur, Malays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 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ominique Fletcher, M.D, Garches &amp; Xavier Lassalle, RN, MSF, Paris, Franc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– high treatment technology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arinder Rawal, M.D. PhD, FRCA(Hon), Orebro, Swede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Cancer pain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Barbara Kleinmann, MD, Freiburg, German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cer pain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Doralina Anghelescu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liative Car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-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D, Helsinki &amp; Aki Hietaharju,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.D., Helsinki &amp; Aki Hietaharju, M.D., 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ychological aspects of managing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Etleva Gjoni, Germany 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 Management Challenge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ebra Gordon, RN, DNP, FAAN, Seattle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Open Sans Semibold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pic>
        <p:nvPicPr>
          <p:cNvPr id="834" name="Picture 6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954920" cy="332568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4"/>
          <p:cNvSpPr/>
          <p:nvPr/>
        </p:nvSpPr>
        <p:spPr>
          <a:xfrm>
            <a:off x="919440" y="198108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  <a:ea typeface="Arial"/>
              </a:rPr>
              <a:t>The project is supported by these organizations: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533700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99ff"/>
                </a:solidFill>
                <a:latin typeface="Open Sans"/>
              </a:rPr>
              <a:t>Type in the name of your institution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algn="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476000" y="4149720"/>
            <a:ext cx="680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800" spc="-1" strike="noStrike">
                <a:solidFill>
                  <a:srgbClr val="3399ff"/>
                </a:solidFill>
                <a:latin typeface="Open Sans"/>
              </a:rPr>
              <a:t>Type in your name</a:t>
            </a: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1476000" y="3284280"/>
            <a:ext cx="680076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Open Sans"/>
              </a:rPr>
              <a:t>Palliative Care</a:t>
            </a:r>
            <a:endParaRPr b="0" lang="en-US" sz="46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pic>
        <p:nvPicPr>
          <p:cNvPr id="797" name="Picture 6" descr="http://1.bp.blogspot.com/_f2I8sVbYok0/TCAm4wO8HrI/AAAAAAAACCQ/w-9D41FN3OQ/s1600/holding+hands.jpg"/>
          <p:cNvPicPr/>
          <p:nvPr/>
        </p:nvPicPr>
        <p:blipFill>
          <a:blip r:embed="rId1"/>
          <a:srcRect l="5915" t="5843" r="6089" b="6326"/>
          <a:stretch/>
        </p:blipFill>
        <p:spPr>
          <a:xfrm>
            <a:off x="-66600" y="0"/>
            <a:ext cx="9210600" cy="6875640"/>
          </a:xfrm>
          <a:prstGeom prst="rect">
            <a:avLst/>
          </a:prstGeom>
          <a:ln w="0">
            <a:noFill/>
          </a:ln>
        </p:spPr>
      </p:pic>
      <p:sp>
        <p:nvSpPr>
          <p:cNvPr id="79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777960" y="2301840"/>
            <a:ext cx="75866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tive total care of the patient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gins at diagnosis, and continues regardless of whether or not a patient receives treatment directed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t the diseas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alth providers must evaluate and alleviate a child's physical, psychological, and social distres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quires a broad interdisciplinary approa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77960" y="1368000"/>
            <a:ext cx="758664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Open Sans Semibold"/>
              </a:rPr>
              <a:t>WHO definition of palliative care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“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art and science of patient and family-centered care aimed at attending to suffering, promoting healing and improving quality of life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”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goal is to add life to the patient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’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 years, not simply years to the their life 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y is it so important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762120" y="114300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e cannot cure or save everyone and we will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ll die someday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resources are limited or unavailable,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 patient should have the benefit of symptom management, especially at the end of lif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Opioids should be available for all patients to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lp alleviate pain and suffering, although not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rrently the cas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does not require high-tech medicine, but may be achieved anywhere with education and dedication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Aspects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rovide comf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Foster interpersonal relationship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u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reavement car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Totality of Personhood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777960" y="5867280"/>
            <a:ext cx="758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Open Sans"/>
              </a:rPr>
              <a:t>Goal: to attend to suffering, of any kind, and improve quality of life</a:t>
            </a:r>
            <a:endParaRPr b="0" lang="en-US" sz="1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3352680" y="3352680"/>
            <a:ext cx="2210040" cy="2210040"/>
          </a:xfrm>
          <a:prstGeom prst="ellipse">
            <a:avLst/>
          </a:prstGeom>
          <a:solidFill>
            <a:srgbClr val="df00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1" name="Oval 3"/>
          <p:cNvSpPr/>
          <p:nvPr/>
        </p:nvSpPr>
        <p:spPr>
          <a:xfrm>
            <a:off x="2514600" y="1905120"/>
            <a:ext cx="2209680" cy="2209680"/>
          </a:xfrm>
          <a:prstGeom prst="ellipse">
            <a:avLst/>
          </a:prstGeom>
          <a:solidFill>
            <a:srgbClr val="604a7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2" name="Oval 5"/>
          <p:cNvSpPr/>
          <p:nvPr/>
        </p:nvSpPr>
        <p:spPr>
          <a:xfrm>
            <a:off x="4191120" y="1905120"/>
            <a:ext cx="2209680" cy="2209680"/>
          </a:xfrm>
          <a:prstGeom prst="ellipse">
            <a:avLst/>
          </a:prstGeom>
          <a:solidFill>
            <a:srgbClr val="008b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3" name="Text Box 6"/>
          <p:cNvSpPr/>
          <p:nvPr/>
        </p:nvSpPr>
        <p:spPr>
          <a:xfrm>
            <a:off x="990720" y="172116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lig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990720" y="515016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et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6553080" y="17236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lture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6248520" y="515016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ducat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3048120" y="279540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od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4686480" y="279540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Mind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3924360" y="424296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Barriers to High Quality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erson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ly difficult, taboos, resisting chang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ystem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cess to services, reimbursement, fragmentation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Quality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eficient education, lack of outcomes resear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echnic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Lack of appropriate evaluation tool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21:01:03Z</dcterms:created>
  <dc:creator>SJCRH</dc:creator>
  <dc:description/>
  <dc:language>en-US</dc:language>
  <cp:lastModifiedBy>ruth</cp:lastModifiedBy>
  <dcterms:modified xsi:type="dcterms:W3CDTF">2015-06-15T09:50:54Z</dcterms:modified>
  <cp:revision>37</cp:revision>
  <dc:subject/>
  <dc:title>Palliative Care</dc:title>
</cp:coreProperties>
</file>